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867900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867600" cy="67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75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587920" y="-360"/>
            <a:ext cx="42768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3249360" y="504720"/>
            <a:ext cx="3367080" cy="252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3000" cy="30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397200"/>
            <a:ext cx="4275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587920" y="6397200"/>
            <a:ext cx="42768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765A-ADA1-4179-A1EF-072906542C3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324972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300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スライド番号プレースホルダー 3"/>
          <p:cNvSpPr/>
          <p:nvPr/>
        </p:nvSpPr>
        <p:spPr>
          <a:xfrm>
            <a:off x="558792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3D30-749E-47A4-AEE9-8A6A6752020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5BB3-7003-4C61-9641-AFD37A7E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E2B9-F6E9-4892-B373-E72F5190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F989-7DD3-4816-94FF-0F521214A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7209-F5A7-425E-8AEB-1B48FCB3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77FD-B503-4D99-9662-E29DE634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1C0E-4C66-4A4B-9511-AD08BCEE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9BB6-AA30-41E3-B8C3-48C59066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02C3-A2D7-4622-8557-D3D1F471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AF51-7486-48E1-AEFD-8D4B49C6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F0EF-117F-4A89-AE80-07DF5B1E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7D55-EF21-42CC-B0B4-994D7B45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5C23-60E8-408D-9600-0F241D52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0010-9B7B-4D87-B7BB-E48EB0E7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0516-D22E-495B-B233-33FCF762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948B-D6F2-4BAD-97D8-2B670C40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1064-9D30-4BA4-9B5A-22FC310F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8860-92C6-4371-B4C7-E4876D95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2D52-65AA-4D8D-8BE2-7186FE2C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1862-5677-474F-A805-0F822054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9143-5A52-4F7B-96A2-D72A3B3B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6FEC-7D6D-4471-9BC1-8372F083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16AE-7860-4A6A-9D22-92CB9E2D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E53D-58B7-45DD-8551-64A4BF93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2603-BD58-40F3-B764-AC41EBE9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1D8A-12BC-4144-8549-205C17DF75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C005-B1F8-4205-A79C-FE6BDDFEB40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monkey and the cra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2276280"/>
            <a:ext cx="6400800" cy="33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763640" y="2060640"/>
            <a:ext cx="583272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s is the monkey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Draw the monkey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s is the crab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Draw the crab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_______had a delicious-looking rice-bal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685188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_______ wanted the rice-ball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1692360" y="1700280"/>
            <a:ext cx="5688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_______ ate the fruit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_______ got hur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45356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crab asked his  friends, the mortar, the chestnut, and the ______,for help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124000" y="2309760"/>
            <a:ext cx="532764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en the _______came home, they taught him a lesson. He said he was_____. He shared the persimmons, and they all became friends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2340000" y="2924280"/>
            <a:ext cx="316872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04:06:10Z</dcterms:created>
  <dc:creator>keieigakka</dc:creator>
  <dc:description/>
  <dc:language>en-US</dc:language>
  <cp:lastModifiedBy>adminweb</cp:lastModifiedBy>
  <cp:lastPrinted>2012-05-29T00:15:31Z</cp:lastPrinted>
  <dcterms:modified xsi:type="dcterms:W3CDTF">2013-06-12T04:26:41Z</dcterms:modified>
  <cp:revision>13</cp:revision>
  <dc:subject/>
  <dc:title>The monkey and the crab</dc:title>
</cp:coreProperties>
</file>