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6EB-E05D-4E18-9B68-24B0B66A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BEC-E540-409F-93CA-AA415B1C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7B6-57E0-486E-9BD9-A4DDD80A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FC4-7156-489E-94F8-C7A28922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C4D-A165-4ACF-AC08-96EF7DBC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587-B4FB-4683-B10D-330515D4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ED5-4A70-42CB-8B99-8543B555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103-F8C9-48A1-8213-C6C4D1C6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DBB0-76E2-4B15-86A7-ADC5B246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08C-B0C5-4EAE-AE41-15E33129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744-5623-4194-A077-5CC34A52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ACB-B9F2-4A06-ADBA-2985608F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AF88-0BB7-4A2B-99C8-B1219DD4CF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ws and eggs to color and pas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467160" y="2000160"/>
            <a:ext cx="2209680" cy="285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012000" y="2000160"/>
            <a:ext cx="219996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611280" y="1844640"/>
            <a:ext cx="696960" cy="852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2124000" y="2000160"/>
            <a:ext cx="662040" cy="81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992160" y="3213000"/>
            <a:ext cx="701640" cy="85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6"/>
          <a:stretch/>
        </p:blipFill>
        <p:spPr>
          <a:xfrm rot="5172000">
            <a:off x="1745640" y="3195360"/>
            <a:ext cx="1054080" cy="64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7"/>
          <a:stretch/>
        </p:blipFill>
        <p:spPr>
          <a:xfrm>
            <a:off x="1908000" y="4824360"/>
            <a:ext cx="628920" cy="7653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CC98-D577-4B06-9D1E-B27BE67883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te Cr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olor the mother and father crow and eggs. Glue them onto the ne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220480" y="5877000"/>
            <a:ext cx="56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ama and papa white crow have  ______________egg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124000" y="2314440"/>
            <a:ext cx="3876840" cy="302436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4282-146E-4655-8FAA-6CFADB6F8349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ma and papa crow see the Krathong and fly to the earth. “Mother! Father!”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Our children!  We love you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DB6C-9E64-4FB4-83D8-C212A9443E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39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5" descr="http://www.coloringpagespot.com/joomgallery/countries-and-cultures/vietnam/img-vietnam-coloring-page-284"/>
          <p:cNvPicPr/>
          <p:nvPr/>
        </p:nvPicPr>
        <p:blipFill>
          <a:blip r:embed="rId1"/>
          <a:stretch/>
        </p:blipFill>
        <p:spPr>
          <a:xfrm>
            <a:off x="250920" y="3500280"/>
            <a:ext cx="2106360" cy="273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528840" cy="792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egg floats to a different country. One day, the eggs hatch. Baby boys are born. Not crow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F68D-CEFE-4FE3-B3EB-054563DA5E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2475000" cy="2146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3851280" y="1197000"/>
            <a:ext cx="1628640" cy="167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5"/>
          <a:stretch/>
        </p:blipFill>
        <p:spPr>
          <a:xfrm>
            <a:off x="2916360" y="1557360"/>
            <a:ext cx="669960" cy="1001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6"/>
          <a:stretch/>
        </p:blipFill>
        <p:spPr>
          <a:xfrm>
            <a:off x="6588000" y="5300640"/>
            <a:ext cx="674640" cy="1011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http://ts3.mm.bing.net/images/thumbnail.aspx?q=4549066730046850&amp;id=286e267045b00a0b80b7d00b0e7547f9"/>
          <p:cNvPicPr/>
          <p:nvPr/>
        </p:nvPicPr>
        <p:blipFill>
          <a:blip r:embed="rId7"/>
          <a:stretch/>
        </p:blipFill>
        <p:spPr>
          <a:xfrm>
            <a:off x="2050920" y="4111560"/>
            <a:ext cx="2089440" cy="1478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www.supercoloring.com/wp-content/main/2010_04/map-of-peru-coloring-page.jpg"/>
          <p:cNvPicPr/>
          <p:nvPr/>
        </p:nvPicPr>
        <p:blipFill>
          <a:blip r:embed="rId8"/>
          <a:stretch/>
        </p:blipFill>
        <p:spPr>
          <a:xfrm>
            <a:off x="7236000" y="4292640"/>
            <a:ext cx="1611000" cy="20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t0.gstatic.com/images?q=tbn:ANd9GcQuZB5ehJy8qhPifLrQwRqEQH8RNzHFTOi2wDDEjScbxp7KguUD"/>
          <p:cNvPicPr/>
          <p:nvPr/>
        </p:nvPicPr>
        <p:blipFill>
          <a:blip r:embed="rId9"/>
          <a:stretch/>
        </p:blipFill>
        <p:spPr>
          <a:xfrm>
            <a:off x="3276720" y="5516640"/>
            <a:ext cx="1726920" cy="11602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63360" y="-1165320"/>
            <a:ext cx="1876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63360" y="-1165320"/>
            <a:ext cx="1876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63360" y="-1165320"/>
            <a:ext cx="1876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63360" y="-1165320"/>
            <a:ext cx="1876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63360" y="-509760"/>
            <a:ext cx="53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63360" y="-509760"/>
            <a:ext cx="53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8"/>
          <p:cNvSpPr/>
          <p:nvPr/>
        </p:nvSpPr>
        <p:spPr>
          <a:xfrm>
            <a:off x="0" y="2276640"/>
            <a:ext cx="53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63360" y="-1157400"/>
            <a:ext cx="18957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2"/>
          <p:cNvSpPr/>
          <p:nvPr/>
        </p:nvSpPr>
        <p:spPr>
          <a:xfrm>
            <a:off x="63360" y="-860400"/>
            <a:ext cx="25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24"/>
          <p:cNvSpPr/>
          <p:nvPr/>
        </p:nvSpPr>
        <p:spPr>
          <a:xfrm>
            <a:off x="63360" y="-860400"/>
            <a:ext cx="25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oloring page flag Peru"/>
          <p:cNvPicPr/>
          <p:nvPr/>
        </p:nvPicPr>
        <p:blipFill>
          <a:blip r:embed="rId10"/>
          <a:stretch/>
        </p:blipFill>
        <p:spPr>
          <a:xfrm>
            <a:off x="4284720" y="2781360"/>
            <a:ext cx="2158920" cy="152856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63360" y="-723960"/>
            <a:ext cx="141948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8" descr="http://www.supercoloring.com/wp-content/main/2009_10/Map-of-Brazil-coloring-page.jpg"/>
          <p:cNvPicPr/>
          <p:nvPr/>
        </p:nvPicPr>
        <p:blipFill>
          <a:blip r:embed="rId11"/>
          <a:stretch/>
        </p:blipFill>
        <p:spPr>
          <a:xfrm>
            <a:off x="6300720" y="1268280"/>
            <a:ext cx="2293920" cy="244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12"/>
          <a:stretch/>
        </p:blipFill>
        <p:spPr>
          <a:xfrm>
            <a:off x="6516720" y="2565360"/>
            <a:ext cx="592200" cy="88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13"/>
          <a:stretch/>
        </p:blipFill>
        <p:spPr>
          <a:xfrm>
            <a:off x="2195640" y="2924280"/>
            <a:ext cx="1800000" cy="12333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1"/>
          <p:cNvSpPr/>
          <p:nvPr/>
        </p:nvSpPr>
        <p:spPr>
          <a:xfrm>
            <a:off x="63360" y="-852480"/>
            <a:ext cx="255276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3" descr="http://2.bp.blogspot.com/-RgDJtGF4E8o/TdaQz7t6kcI/AAAAAAAABkI/T-lw7neYCNY/s1600/brazil%2Bflag%2Bcoloring%2Bpages.gif"/>
          <p:cNvPicPr/>
          <p:nvPr/>
        </p:nvPicPr>
        <p:blipFill>
          <a:blip r:embed="rId14"/>
          <a:stretch/>
        </p:blipFill>
        <p:spPr>
          <a:xfrm>
            <a:off x="4500720" y="4249800"/>
            <a:ext cx="1699920" cy="11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15"/>
          <a:stretch/>
        </p:blipFill>
        <p:spPr>
          <a:xfrm>
            <a:off x="468360" y="4653000"/>
            <a:ext cx="590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typhoon came. The five _____float away in the river. Mama and papa crow die. They go to heave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000" y="2781360"/>
            <a:ext cx="8218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FC3E-DB41-4214-B803-EDA3309A30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5545080" cy="428796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084720" y="558972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the eggs floating down the riv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are very special. Never forget us. We love you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blanks with words from the sentences abo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You are very 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___________forget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We _____________yo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5058-ED2B-445C-9C8D-823F466C52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day, the five boys see each other. Their faces look the same. They know they were broth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EEB0-5C65-484C-9FD0-BD171653FA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811680" y="2481120"/>
            <a:ext cx="1552320" cy="2200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243160" y="2481120"/>
            <a:ext cx="1552680" cy="2200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689040" y="2481120"/>
            <a:ext cx="1554120" cy="220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5275440" y="2637000"/>
            <a:ext cx="1554120" cy="219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6829560" y="2637000"/>
            <a:ext cx="1554120" cy="2199960"/>
          </a:xfrm>
          <a:prstGeom prst="rect">
            <a:avLst/>
          </a:prstGeom>
          <a:ln w="0">
            <a:noFill/>
          </a:ln>
        </p:spPr>
      </p:pic>
      <p:sp>
        <p:nvSpPr>
          <p:cNvPr id="102" name="テキスト ボックス 4"/>
          <p:cNvSpPr/>
          <p:nvPr/>
        </p:nvSpPr>
        <p:spPr>
          <a:xfrm>
            <a:off x="2243160" y="5373720"/>
            <a:ext cx="51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or the five brothers. Make a paper doll of five brothers holding hands. They are so happy to meet each other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is our real mama and papa” brothers cry. They make a 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ｋ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thong . They float it in the rive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w a line between the words and the pictu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5038-EA1E-4225-9F29-ADC1F74D1A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700360" y="2449440"/>
            <a:ext cx="4176720" cy="3432240"/>
          </a:xfrm>
          <a:prstGeom prst="rect">
            <a:avLst/>
          </a:prstGeom>
          <a:ln w="0">
            <a:noFill/>
          </a:ln>
        </p:spPr>
      </p:pic>
      <p:sp>
        <p:nvSpPr>
          <p:cNvPr id="107" name="テキスト ボックス 4"/>
          <p:cNvSpPr/>
          <p:nvPr/>
        </p:nvSpPr>
        <p:spPr>
          <a:xfrm>
            <a:off x="7164360" y="28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d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5"/>
          <p:cNvSpPr/>
          <p:nvPr/>
        </p:nvSpPr>
        <p:spPr>
          <a:xfrm>
            <a:off x="82692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ow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6"/>
          <p:cNvSpPr/>
          <p:nvPr/>
        </p:nvSpPr>
        <p:spPr>
          <a:xfrm>
            <a:off x="7164360" y="505152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mboo le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5:08:53Z</dcterms:created>
  <dc:creator>英文学専攻</dc:creator>
  <dc:description/>
  <dc:language>en-US</dc:language>
  <cp:lastModifiedBy>adminweb</cp:lastModifiedBy>
  <dcterms:modified xsi:type="dcterms:W3CDTF">2013-06-12T04:24:56Z</dcterms:modified>
  <cp:revision>1</cp:revision>
  <dc:subject/>
  <dc:title>Crows and eggs to color and paste</dc:title>
</cp:coreProperties>
</file>